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16E1-6F2B-4CE8-B269-6458869A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472-7550-42B8-9AAB-D4BD6371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69D7-4F12-4864-8C6D-DF0AB0F6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3EF-FCF3-4428-9D7C-75FFF5EC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FE9C-64A5-44AB-9E38-81FF17AA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AE7-5D09-4822-839F-B09BBAF6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9D19-47AD-47BD-83E8-D849C267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51A-8D3C-4C5A-8A7A-E7B044ED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3EB-62ED-4DE6-9E7C-836C512F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1976-2B68-463C-8DEB-3B91C658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5BA1-00E6-49BB-BA07-F046EC2D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128-FF3B-4DE7-946F-057FC743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F679-766B-4F52-93E1-1CB94CC91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19960" y="14292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Anhafaledd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57120" y="641520"/>
            <a:ext cx="8501040" cy="69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22. (a)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i) Datryswch yr anhafaledd n + 6 &lt; 3n – 5.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[2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ii) Ysgrifennwch y rhif cyfan mwyaf sy’n bodloni’r anhafaledd hwn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[1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23. (a)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i) Datryswch yr a hafaledd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7x – 3 &lt; 14 + 4x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[2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ii) Ysgrifennwch y rhif cyfan lleiaf sy’n bodloni’r anhafaledd hwn.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[1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i) Datryswch yr anhafaledd  8x + 11 &gt; 2x – 13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[2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ii) Ysgrifennwch werth cyfanrifol lleiaf x sy’n bodloni’r anhafaledd hwn. [1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d-drefnwch yr anhafaledd 3 – 3n &lt; 9 – 5n ar y ffurf n &lt; rhyw rif.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    [2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 wybod bod n hefyd yn bodloni’r anhafaledd 3n &gt; -6, ysgrifennwch ho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rthoedd cyfanrifol n sy’n bodloni’r ddau anhafaledd.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                    [2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luniwch echelinau y o -6 i 10 ac echelinau x o -4 i 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 yr echelinau, lluniwch y rhanbarth sy’n bodloni pob un o’r anhafaleddau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anlynol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x  ≤ 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  ≥  -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  ≤  3x –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Gwnewch yn siwr eich bod yn dangos yn glir y rhanbarth sy’n cynrychioli eich ate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22:42:07Z</dcterms:created>
  <dc:creator>catrin</dc:creator>
  <dc:description/>
  <dc:language>en-US</dc:language>
  <cp:lastModifiedBy>catrin</cp:lastModifiedBy>
  <dcterms:modified xsi:type="dcterms:W3CDTF">2008-01-16T23:21:01Z</dcterms:modified>
  <cp:revision>4</cp:revision>
  <dc:subject/>
  <dc:title>Slide 1</dc:title>
</cp:coreProperties>
</file>